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4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FE9C-89AA-4A3D-9B91-D67F73BEAE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od chains start with the su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od chains start with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of all shapes…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of all shape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sizes!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iz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se anim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first to tak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d ener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lants,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called primary consumer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se anim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first to tak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d ener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lant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called 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se primary consumers have predators. Other animals that feed on the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se primary consumers have predators. Other animals that feed on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hids are eaten by…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hids are eaten by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adybird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y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primary consumers are called secondary consumer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primary consumers are called 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far this is a straightforward food chai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→ aphid → ladybir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n reality it is more complicated than tha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far this is a straightforward food ch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→ aphid → ladybi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n reality it is more complicated than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ird eats ladybirds and aphid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ird eats ladybirds and aph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→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ird eats smaller birds, mice, and rabbi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ird eats smaller birds, mice, and rab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e and rabbits have other predator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e and rabbits have other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eat the frog?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 the frog eats?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eat the fro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 the frog ea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it’s not entirely clear who eats who!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it’s not entirely clear who eats wh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how what goes on with the help of a Food Web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how what goes on with the help of a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happen if a disease killed off many of the hawks?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happen if a disease killed off many of the haw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ill be nothing to eat the snakes, so their numbers will increase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ill be nothing to eat the snakes, so their numbers will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frogs get eate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frogs get e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rogs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ricke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ro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ri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cattail gets eaten by the cricke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cattail gets eaten by the cri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 →  rabbit →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 →  rabbit 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 crickets don’t have enough food so their numbers go dow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 crickets don’t have enough food so their numbers go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and so on. Numbers of each species have an effect on the numbers of the other species in the web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and so on. Numbers of each species have an effect on the numbers of the other species in the we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food web worksheet to predict  what might happen in the following situations: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There is very little rain and much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 Grass and Cattail die off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 Humans nearby bring cats into the area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 The frogs eats some poisoned slug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garde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food web worksheet to predict  what might happen in the following situa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There is very little rain and much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 Grass and Cattail die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 Humans nearby bring cats into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 The frogs eats some poisoned slug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ga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 →  rabbit →  fox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 →  rabbit →  f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od chains start with ENERGY from the su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od chains start with ENERG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from the air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light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r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ed to the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of the plan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from 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ed to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from the air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light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r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ed to the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of the plan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from 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ed to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plants produce their own food, they are called ‘Producers’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plants produce their own food, they are called ‘Producer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is then passed on to animals when they eat the plant.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is then passed on to animals when they eat the pl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2A0F-6301-4166-8329-9D6CDF4F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DE1A-3D60-47A0-8927-F43D4847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9DFE-3AC3-4B39-A459-E77E4E671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9E70-647F-4D70-9A75-1E0E4BCE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0B74-BF69-4B61-AE6F-41865289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868D-8F42-46D1-88E0-8F1171C1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64DB-6CDD-4E62-BA82-31D2E691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2977-F1B7-4E46-82E3-7FF14757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AB83-667B-4205-B3F0-F809BE7B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1A13-1F2F-4FE1-9512-0FDBB12A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E8BD-37B5-4723-8146-1D5F03A7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7715-F69A-4ACF-A125-1639A255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363B-CD51-4CE4-9484-8BECFCB2D0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n  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food chains start with the s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028" descr="54833838nAzMGk_ph"/>
          <p:cNvPicPr/>
          <p:nvPr/>
        </p:nvPicPr>
        <p:blipFill>
          <a:blip r:embed="rId1"/>
          <a:stretch/>
        </p:blipFill>
        <p:spPr>
          <a:xfrm>
            <a:off x="609480" y="4572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Animals of all shapes…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51043429TzJdSH_ph"/>
          <p:cNvPicPr/>
          <p:nvPr/>
        </p:nvPicPr>
        <p:blipFill>
          <a:blip r:embed="rId1"/>
          <a:stretch/>
        </p:blipFill>
        <p:spPr>
          <a:xfrm>
            <a:off x="762120" y="366840"/>
            <a:ext cx="7619760" cy="61243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0" y="1143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and sizes!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900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78580970BTaXaB_ph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Because these animals</a:t>
            </a:r>
            <a:br>
              <a:rPr sz="3100"/>
            </a:b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are the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100" spc="-1" strike="noStrike">
                <a:solidFill>
                  <a:srgbClr val="000000"/>
                </a:solidFill>
                <a:latin typeface="Times New Roman"/>
              </a:rPr>
              <a:t>first 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br>
              <a:rPr sz="3100"/>
            </a:b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the food energy</a:t>
            </a:r>
            <a:br>
              <a:rPr sz="3100"/>
            </a:b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from the plants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029200" y="4800600"/>
            <a:ext cx="32767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They are called </a:t>
            </a:r>
            <a:r>
              <a:rPr b="1" i="1" lang="en-GB" sz="3100" spc="-1" strike="noStrike">
                <a:solidFill>
                  <a:srgbClr val="000000"/>
                </a:solidFill>
                <a:latin typeface="Times New Roman"/>
              </a:rPr>
              <a:t>primary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39589844nfznzY_ph"/>
          <p:cNvPicPr/>
          <p:nvPr/>
        </p:nvPicPr>
        <p:blipFill>
          <a:blip r:embed="rId1"/>
          <a:stretch/>
        </p:blipFill>
        <p:spPr>
          <a:xfrm>
            <a:off x="609480" y="457200"/>
            <a:ext cx="7901280" cy="5904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4495680" y="46483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of these primary consumers have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redators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 animals that feed on the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51043689fkzMoZ_ph"/>
          <p:cNvPicPr/>
          <p:nvPr/>
        </p:nvPicPr>
        <p:blipFill>
          <a:blip r:embed="rId1"/>
          <a:stretch/>
        </p:blipFill>
        <p:spPr>
          <a:xfrm>
            <a:off x="762120" y="385920"/>
            <a:ext cx="7619760" cy="60861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3962520" y="8380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phids are eaten by…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84560156ttgWDR_ph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5257800" y="51055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Ladybird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78581179zBdQfy_ph"/>
          <p:cNvPicPr/>
          <p:nvPr/>
        </p:nvPicPr>
        <p:blipFill>
          <a:blip r:embed="rId1"/>
          <a:stretch/>
        </p:blipFill>
        <p:spPr>
          <a:xfrm>
            <a:off x="609480" y="3808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133720" y="5331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ff00"/>
                </a:solidFill>
                <a:latin typeface="Times New Roman"/>
              </a:rPr>
              <a:t>Animals that eat primary consumers are called secondary consum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 far this is a straightforward food 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n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phid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dybi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t in reality it is more complicated than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54833379tvSXMh_ph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5105520" y="1295280"/>
            <a:ext cx="2514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Times New Roman"/>
              </a:rPr>
              <a:t>This bird eats ladybirds</a:t>
            </a:r>
            <a:r>
              <a:rPr b="1" i="1" lang="en-GB" sz="3000" spc="-1" strike="noStrike">
                <a:solidFill>
                  <a:srgbClr val="ffff00"/>
                </a:solidFill>
                <a:latin typeface="Times New Roman"/>
              </a:rPr>
              <a:t> and </a:t>
            </a:r>
            <a:r>
              <a:rPr b="1" lang="en-GB" sz="3000" spc="-1" strike="noStrike">
                <a:solidFill>
                  <a:srgbClr val="ffff00"/>
                </a:solidFill>
                <a:latin typeface="Times New Roman"/>
              </a:rPr>
              <a:t>aphids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n  →  grass 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 rot="21379200">
            <a:off x="5528520" y="403200"/>
            <a:ext cx="3395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This bird eats smaller birds, mice, and rabbits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Рисунок 1" descr=""/>
          <p:cNvPicPr/>
          <p:nvPr/>
        </p:nvPicPr>
        <p:blipFill>
          <a:blip r:embed="rId1"/>
          <a:stretch/>
        </p:blipFill>
        <p:spPr>
          <a:xfrm>
            <a:off x="11160" y="1916280"/>
            <a:ext cx="7729560" cy="48891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990720" y="5638680"/>
            <a:ext cx="5181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ice and rabbits have other predators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91700292AaoMGU_ph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066680" y="1295280"/>
            <a:ext cx="3124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ffff"/>
                </a:solidFill>
                <a:latin typeface="Times New Roman"/>
              </a:rPr>
              <a:t>What will eat the frog?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5867280" y="4724280"/>
            <a:ext cx="2286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ffffff"/>
                </a:solidFill>
                <a:latin typeface="Times New Roman"/>
              </a:rPr>
              <a:t>What do you think the frog eats?</a:t>
            </a:r>
            <a:endParaRPr b="0" i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107013335MQlSLy_ph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4419720" y="1143000"/>
            <a:ext cx="35812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Sometimes it’s not entirely clear who eats who!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533520" y="3808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 can show what goes on with the help of a Food Web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3" descr="eco2"/>
          <p:cNvPicPr/>
          <p:nvPr/>
        </p:nvPicPr>
        <p:blipFill>
          <a:blip r:embed="rId1"/>
          <a:stretch/>
        </p:blipFill>
        <p:spPr>
          <a:xfrm>
            <a:off x="990720" y="1797120"/>
            <a:ext cx="6858000" cy="42577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609480" y="3808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hat would happen if a disease killed off many of the hawks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1138320" y="1297080"/>
            <a:ext cx="6867360" cy="42638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1138320" y="1297080"/>
            <a:ext cx="6867360" cy="4263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/>
          <p:cNvPicPr/>
          <p:nvPr/>
        </p:nvPicPr>
        <p:blipFill>
          <a:blip r:embed="rId2"/>
          <a:stretch/>
        </p:blipFill>
        <p:spPr>
          <a:xfrm>
            <a:off x="2819520" y="83808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"/>
          <p:cNvPicPr/>
          <p:nvPr/>
        </p:nvPicPr>
        <p:blipFill>
          <a:blip r:embed="rId3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"/>
          <p:cNvPicPr/>
          <p:nvPr/>
        </p:nvPicPr>
        <p:blipFill>
          <a:blip r:embed="rId4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1"/>
          <p:cNvSpPr/>
          <p:nvPr/>
        </p:nvSpPr>
        <p:spPr>
          <a:xfrm>
            <a:off x="152280" y="137160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here will be nothing to eat the snakes, so their numbers will increase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131840" y="1292400"/>
            <a:ext cx="6878520" cy="42732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5257800" y="22860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ll the frogs get eate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3"/>
          <a:stretch/>
        </p:blipFill>
        <p:spPr>
          <a:xfrm>
            <a:off x="2819520" y="83808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4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1131840" y="1292400"/>
            <a:ext cx="6878520" cy="4273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3"/>
          <a:stretch/>
        </p:blipFill>
        <p:spPr>
          <a:xfrm>
            <a:off x="2819520" y="83808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4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5"/>
          <a:stretch/>
        </p:blipFill>
        <p:spPr>
          <a:xfrm>
            <a:off x="4876920" y="525780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"/>
          <p:cNvPicPr/>
          <p:nvPr/>
        </p:nvPicPr>
        <p:blipFill>
          <a:blip r:embed="rId6"/>
          <a:stretch/>
        </p:blipFill>
        <p:spPr>
          <a:xfrm>
            <a:off x="6248520" y="556272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"/>
          <p:cNvPicPr/>
          <p:nvPr/>
        </p:nvPicPr>
        <p:blipFill>
          <a:blip r:embed="rId7"/>
          <a:stretch/>
        </p:blipFill>
        <p:spPr>
          <a:xfrm>
            <a:off x="3809880" y="579132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"/>
          <p:cNvPicPr/>
          <p:nvPr/>
        </p:nvPicPr>
        <p:blipFill>
          <a:blip r:embed="rId8"/>
          <a:stretch/>
        </p:blipFill>
        <p:spPr>
          <a:xfrm>
            <a:off x="5029200" y="5989680"/>
            <a:ext cx="1336680" cy="868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4"/>
          <p:cNvSpPr/>
          <p:nvPr/>
        </p:nvSpPr>
        <p:spPr>
          <a:xfrm>
            <a:off x="6103800" y="266688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o frog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7391520" y="57150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ore cricke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2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3"/>
          <a:stretch/>
        </p:blipFill>
        <p:spPr>
          <a:xfrm>
            <a:off x="7543800" y="533412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"/>
          <p:cNvPicPr/>
          <p:nvPr/>
        </p:nvPicPr>
        <p:blipFill>
          <a:blip r:embed="rId4"/>
          <a:stretch/>
        </p:blipFill>
        <p:spPr>
          <a:xfrm>
            <a:off x="6477120" y="556272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"/>
          <p:cNvPicPr/>
          <p:nvPr/>
        </p:nvPicPr>
        <p:blipFill>
          <a:blip r:embed="rId5"/>
          <a:stretch/>
        </p:blipFill>
        <p:spPr>
          <a:xfrm>
            <a:off x="4343400" y="525780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"/>
          <p:cNvPicPr/>
          <p:nvPr/>
        </p:nvPicPr>
        <p:blipFill>
          <a:blip r:embed="rId6"/>
          <a:stretch/>
        </p:blipFill>
        <p:spPr>
          <a:xfrm>
            <a:off x="5562720" y="548640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"/>
          <p:cNvPicPr/>
          <p:nvPr/>
        </p:nvPicPr>
        <p:blipFill>
          <a:blip r:embed="rId7"/>
          <a:stretch/>
        </p:blipFill>
        <p:spPr>
          <a:xfrm>
            <a:off x="1143000" y="1219320"/>
            <a:ext cx="6878520" cy="42735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3"/>
          <p:cNvSpPr/>
          <p:nvPr/>
        </p:nvSpPr>
        <p:spPr>
          <a:xfrm>
            <a:off x="7010280" y="335268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ost of the cattail gets eaten by the cricke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4" descr=""/>
          <p:cNvPicPr/>
          <p:nvPr/>
        </p:nvPicPr>
        <p:blipFill>
          <a:blip r:embed="rId8"/>
          <a:stretch/>
        </p:blipFill>
        <p:spPr>
          <a:xfrm>
            <a:off x="2819520" y="838080"/>
            <a:ext cx="2809800" cy="6732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n  →  grass  →  rabbit 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6878880" cy="42735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5867280" y="502920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ow the crickets don’t have enough food so their numbers go dow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3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"/>
          <p:cNvPicPr/>
          <p:nvPr/>
        </p:nvPicPr>
        <p:blipFill>
          <a:blip r:embed="rId4"/>
          <a:stretch/>
        </p:blipFill>
        <p:spPr>
          <a:xfrm>
            <a:off x="1219320" y="1066680"/>
            <a:ext cx="2809800" cy="6732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eco2"/>
          <p:cNvPicPr/>
          <p:nvPr/>
        </p:nvPicPr>
        <p:blipFill>
          <a:blip r:embed="rId1"/>
          <a:stretch/>
        </p:blipFill>
        <p:spPr>
          <a:xfrm>
            <a:off x="990720" y="1797120"/>
            <a:ext cx="6858000" cy="42577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609480" y="3049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..and so on. Numbers of each species have an effect on the numbers of the other species in the web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the food web worksheet to predict  what might happen in the following situatio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) There is very little rain and much of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rsh Grass and Cattail die o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)  Humans nearby bring cats into the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)  The frogs eats some poisoned slug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rom a ga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n  →  grass  →  rabbit →  fo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027"/>
          <p:cNvSpPr/>
          <p:nvPr/>
        </p:nvSpPr>
        <p:spPr>
          <a:xfrm>
            <a:off x="2556000" y="2349360"/>
            <a:ext cx="6337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0000"/>
                </a:solidFill>
                <a:latin typeface="Times New Roman"/>
              </a:rPr>
              <a:t>All food chains start with ENERGY from the sun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Fig30"/>
          <p:cNvPicPr/>
          <p:nvPr/>
        </p:nvPicPr>
        <p:blipFill>
          <a:blip r:embed="rId1"/>
          <a:stretch/>
        </p:blipFill>
        <p:spPr>
          <a:xfrm>
            <a:off x="990720" y="1143000"/>
            <a:ext cx="7183440" cy="47624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1756440" y="16765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bon dioxide from the ai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6631560" y="3200400"/>
            <a:ext cx="14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ergy from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nlight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or light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06720" y="342900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ter from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oo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88320" y="4724280"/>
            <a:ext cx="196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ported to th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t of the plan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Fig30"/>
          <p:cNvPicPr/>
          <p:nvPr/>
        </p:nvPicPr>
        <p:blipFill>
          <a:blip r:embed="rId1"/>
          <a:stretch/>
        </p:blipFill>
        <p:spPr>
          <a:xfrm>
            <a:off x="990720" y="1143000"/>
            <a:ext cx="7183440" cy="47624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1756440" y="16765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bon dioxide from the ai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631560" y="3200400"/>
            <a:ext cx="14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ergy from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nlight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or light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06720" y="342900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ter from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oo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688320" y="4724280"/>
            <a:ext cx="196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ported to th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t of the plan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380880" y="304920"/>
            <a:ext cx="8229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762120" y="1143000"/>
            <a:ext cx="76197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Because plants </a:t>
            </a:r>
            <a:r>
              <a:rPr b="1" i="1" lang="en-GB" sz="3300" spc="-1" strike="noStrike">
                <a:solidFill>
                  <a:srgbClr val="000000"/>
                </a:solidFill>
                <a:latin typeface="Times New Roman"/>
              </a:rPr>
              <a:t>produce</a:t>
            </a: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 their own food, they are called ‘Producers’</a:t>
            </a:r>
            <a:endParaRPr b="0" i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4572000" y="327672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39589895mpnisC_ph"/>
          <p:cNvPicPr/>
          <p:nvPr/>
        </p:nvPicPr>
        <p:blipFill>
          <a:blip r:embed="rId1"/>
          <a:stretch/>
        </p:blipFill>
        <p:spPr>
          <a:xfrm>
            <a:off x="776160" y="588960"/>
            <a:ext cx="7589880" cy="5680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energy is then passed on to animals when they eat the pla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12:42:39Z</dcterms:created>
  <dc:creator>WBC</dc:creator>
  <dc:description/>
  <dc:language>en-US</dc:language>
  <cp:lastModifiedBy>LEGION2</cp:lastModifiedBy>
  <dcterms:modified xsi:type="dcterms:W3CDTF">2015-12-15T09:28:54Z</dcterms:modified>
  <cp:revision>52</cp:revision>
  <dc:subject/>
  <dc:title>Feeding Relationships</dc:title>
</cp:coreProperties>
</file>